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4.png" ContentType="image/png"/>
  <Override PartName="/ppt/media/image8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131-9E8A-4D0A-A131-71C0027E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8A2-B28B-4ECC-98A5-B4ABC814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CA9-4389-4606-ADB9-F076FBD4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383B-F8EB-4C8F-8B09-EABB7D97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2746F-8282-42D5-9997-D3849133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C7714-3A80-4345-9DC6-19D605C2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F9CCA-1E35-4D8B-97AA-379E4C41A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167E9-1A37-4AB8-86D7-0A96AAA21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15493-02EA-4956-9322-EC07B42A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7A24-38ED-4123-9F0B-1998F3187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8AA2-70E0-47F5-A7FC-7DB5F82E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E62F-F7C0-400B-AD31-38A28E617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BD87-75BE-483B-BFE4-939229EA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81E1D-A9C4-4A56-8797-5A2B0957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B9E8F-103D-4E81-8A8B-881F257C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82FCC-B5A2-404C-8D25-838E0A1E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D27D8-05AA-48C5-9DE8-D52E3410E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64505-6469-4F01-BFBE-15AF1BD1E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4A006-8CD1-4DDF-9F5B-F0C6AE00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8AD9A-9F16-4935-B37A-04C7C7685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6D209-16C9-49D5-A85E-5D6BED07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1F729-168E-4A48-B249-EB4A2E67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9BC6-2D67-4396-A551-939A17E8A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1658C-AB4B-49BB-86B4-4C915C7B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D6F55-9E0E-4983-BA67-4E0640B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622DE-04D0-49DD-B573-F73A4402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D1621-C965-4BBF-AE73-463402BF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5AA0-3AB6-4CB2-91EF-6D519A85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84D1EE-C6A4-4054-B480-4A095E623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4B9C8-34AC-403D-92EC-A0189F8E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BE3D3-B314-40E0-ABD8-1DDD669F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81FE97-4ACE-474F-91C1-EBB8F9A0C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7627E-4287-454A-9241-C8C4EDCE8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1DD8-EEB9-478C-82E8-BE3DB8E4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CB7D9-3719-4827-B3E9-DCD1EF4B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127F8-D9DB-44B8-BB33-DE6FB897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BF0E7A-EAC7-4A7D-AB33-8BF4309BE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5510D9-CF75-4179-9ADD-BA6509FD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67D66-BD3E-4DD7-89DE-1BE82AE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F1EB3-58C6-4A4C-9BCA-0ADE1AAC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A0274-284E-4C13-8A90-2DD307A4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E6D0C-F22C-43BD-8F46-DFADFBB8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455F9-E673-4AFC-9FBC-8F17E6A28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1F45CF-DFCF-45D6-BCE8-631E40F39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FBDB-B124-4019-9B64-92CD329A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3FDE31-D7A4-4225-9BFF-4D0F8D503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58D125-BD38-489E-A45D-2F3A7F9BB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EF0624-DC6A-4DDE-A5E9-AD161B5F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6AFA4-2AC9-428F-BB37-A8DCE2348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F09198-D847-48F2-931C-BF80807C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59EC-678B-4E26-BB07-1D8CE3ACC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4DE08-B1E7-47BC-A9F9-76392DDCD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83CFD-BF4E-455C-B249-2B34BE8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3710A-93BA-40BB-A869-9B571F53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71B98-BDA6-479F-8E98-7C961021E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46AF-517D-47ED-A905-E1AECE77C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0B7C32-DA48-4D1A-8B18-56BD885A6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B9AAB-54C9-49DC-820C-1D763BBC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F15A91-E043-47EA-AA5F-BF533263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3147A3-14FE-42F2-99D5-316C2883C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D1BC5-4B48-4896-85CA-03BE55C8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AA999C-6776-4232-97ED-27AFD6CA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96FB06-2566-499C-8445-8C3DF2053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B37A78-8CC9-4AB3-8C93-9CAC2ABB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BD01B-F12D-4DFE-AA26-2FA5322C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3D0C5-FA33-4571-A077-13812888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D1F4-35BC-4FC5-8C77-8AE79CE6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37016-D501-4D43-81D2-B45CD51E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18CBEC-71C9-4571-AFE8-2F24E605B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11166-E334-4030-9D7C-AD501B49D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B4578-0CE9-48A1-9974-CC72BF0DF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5E67-27F7-487B-8896-4EF91BCA2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353321-7B70-43E5-BACD-87B649C8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D1CDEE-CE32-448E-B27E-55449E57F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D8CF7C-1E79-4EB0-AFDB-FC303D27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30186-41A1-4B88-A9E7-B1F82C66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D5ACF0-7F71-4FF5-8F36-BEF9B22D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88D-8088-4655-8092-94C96D81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6992B-EB1B-4912-AC6D-ED21C4E3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9AB1A9-B83B-4F0F-9D00-DBC9C9A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B7660-E227-463A-A543-64243D5C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3D676D-2ED7-4286-8546-D8C9743CB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2FBA1-AB91-45CE-86A2-A3076E4A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9C035-5EF9-456E-933D-81B5F6F9A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D9D312-B6EF-4AD0-BE3A-BEF100DAB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E08BA-388D-450B-9D33-48F1FA3B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9B3F34-424B-446A-83DC-D7EB90ED7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73F635-E003-4CC3-A922-72402608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3F1-FE35-4A17-BC6E-AEC85061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6A8F-C3F1-4A0E-AB6A-252AE1B4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A7B19-A274-4DE1-8DD9-FC0CA0D8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338AB-446D-4E9F-A142-650028E0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BD032-3F23-4E39-8714-1B99BAF4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89D8C-DC41-4FC6-8EF3-0AE86F04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AB3EC-EAD9-46E8-A316-433E78A1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E8FE17-9ECD-47F0-B44D-E6450D96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78050-6BBE-4412-8479-8A7AD1EF69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7038B-C1CB-43E6-BBDE-E3DEC8A751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9C47-1233-4D3A-AA4D-4ACA264D3CA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DEFC-C018-413D-9656-A5E8CE9E9B9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F6D1-5CA8-458C-9C06-D21FEC49B9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48B0-5FE8-4E30-A4CC-8AFD6CC474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FCD6-D888-4B87-A37E-6A7A07AD66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8545-3DCF-40B2-80C1-743AE39D990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523800" y="1749600"/>
            <a:ext cx="8248680" cy="18414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464646"/>
                </a:solidFill>
                <a:latin typeface="Lucida Sans Unicode"/>
              </a:rPr>
              <a:t>May 2009 IB Case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700" spc="-1" strike="noStrike">
                <a:solidFill>
                  <a:srgbClr val="464646"/>
                </a:solidFill>
                <a:latin typeface="Lucida Sans Unicode"/>
              </a:rPr>
              <a:t>Issues to Revi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A paternalistic leader thinks and acts like a parent. He/she tries to do their best for their workers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There may be consultation to find out the views of employees, but decisions are made by the head of the family. 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is type of leader believes employees need direction but thinks it is important they are supported and cared for properly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Paternalistic managers are interested in the security and social needs of their staff. 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They are interested in how workers feel and whether they are happy in their work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  <a:p>
            <a:pPr marL="346680" indent="-24264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Lucida Sans Unicode"/>
              </a:rPr>
              <a:t>Nevertheless, it is quite an autocratic approach.</a:t>
            </a:r>
            <a:endParaRPr b="0" lang="en-US" sz="2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he knows the staff well so feels that a paternalistic approach is best – as they are family friend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t is not a large groups of employees so she can keep control with this paternalistic approac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ith this approach, she can care for them and look after their welfare, which will make them want to stay with her – and remain loya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re have been problems with this approa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ff absences and poor punctuality. She has to cover their duties, and this takes her away from her core responsibilit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ost of her staff are part-time, and are less likely to be motivated? They may need a more strict approach to get them to wor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As a paternalistic leader (just like autocratic leaders) she does not give employees control over decision mak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ask in ha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radition of the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type of work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group siz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leader’s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Group personal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i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ad lines 93-113 of the case study carefully and using your textbook, outline which theorists we can apply to this case study. (leadership (HL) and motivational). (IBO page 26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ing the Raffo book, evaluate the monetary and non-monetary rewards mentioned in the case study (if any). Which do you suggest could be used to solve Sophie’s problems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mportant suggested reading – notes to be made and applied to the case study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Likert – lead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atrix structur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The informal organiz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Minzberg/Pet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ophie gets a lot of help with her business from her parents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She has several part time and 2 full time employee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These come from the community, and are family friends with Sophie. This is why she has adopted a paternalistic leadership style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Rectangle 2" descr=""/>
          <p:cNvPicPr/>
          <p:nvPr/>
        </p:nvPicPr>
        <p:blipFill>
          <a:blip r:embed="rId1"/>
          <a:stretch/>
        </p:blipFill>
        <p:spPr>
          <a:xfrm>
            <a:off x="219240" y="268200"/>
            <a:ext cx="8474040" cy="115884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igh levels of staff turnover punctualit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The Sanctuary recruiting more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Having a large number of periphery and a small number of core workers is causing her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Does this mean it is wise to recruit more part time – and students???? For a low starting salary as well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ust manage her human resources more professionally and consistently. We could argue that her leadership style is not helping these problems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7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 core staff have similar eco-tourism values, and they give her ideas about how to attract young eco-tourists to the area. This could open up opportunities for her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Lower costs for summer staff – as their salaries will be low as they are students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She covers a busy period (summer) and avoids recruiting permanent staff she may not need later on if she recruited summer staff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hey are young/fresh new ideas/eager to work (summer staff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249120" y="128520"/>
            <a:ext cx="8444160" cy="12985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staff would be more committed to LM. They will be more professional as this is their career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he may find it difficult to employ summer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Core idea will be more expensive – as she will have to give career opportunities and an enhanced pay structur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It may solve some of her problems if she increased her core workers – to make it more professional and avoid the current existing problems she is facing with part time staff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cida Sans Unicode"/>
              </a:rPr>
              <a:t>Businesses have a core group of workers, which form the basis of its operations and a periphery, which consist of all other tasks needed to run the firm, but which are not central to the business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Professor Charles Handy suggested that there were three parts to modern firms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Lucida Sans Unicode"/>
              </a:rPr>
              <a:t>Reading Wall page 275-276.</a:t>
            </a:r>
            <a:endParaRPr b="0" lang="en-US" sz="3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225360" y="268200"/>
            <a:ext cx="8467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Sophie has adopted a paternalistic leadership style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Definition: where managers and leaders treat their employees as if they were family members by guiding them through a process of consultation. In their opinion, they act in the best interests of their workers.</a:t>
            </a:r>
            <a:endParaRPr b="0" lang="en-US" sz="3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Lucida Sans Unicode"/>
              </a:rPr>
              <a:t>Write down five key features/traits of a paternalistic leader....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is style is derived from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Mayo’s work on human relations and Maslow’s lower and middle order need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The approach is to consult with staff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Lucida Sans Unicode"/>
              </a:rPr>
              <a:t>Usually there is emphasis on training and appraisal for personal development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Eavan Zora</dc:creator>
  <dc:description/>
  <dc:language>en-US</dc:language>
  <cp:lastModifiedBy>chwh</cp:lastModifiedBy>
  <dcterms:modified xsi:type="dcterms:W3CDTF">2009-03-31T06:52:22Z</dcterms:modified>
  <cp:revision>26</cp:revision>
  <dc:subject/>
  <dc:title>Les Maisonnettes</dc:title>
</cp:coreProperties>
</file>